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AC6-2935-4419-B789-3123BD96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21D-59FB-45A4-929B-1824829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22D-43C4-41C1-A561-19E24C24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D1E-731E-44D7-8726-25A134C3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0C7-14F0-448B-938B-00B5627E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D9C-98A2-4C8D-A18B-42D2833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ADD-CC8D-46DD-8399-2DD2CB6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7C8-C516-4566-8DF2-BBA4BEA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278-9121-49F6-B3F7-4267492E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DB1-4BD5-4C1E-B198-C9BCCF6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E94-DA74-43A9-BC12-6C4551E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721-FC1F-4F35-9720-DF016F0A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A2B-0A9E-4727-B030-6D2BC283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uk/imgres?imgurl=http://www.icmag.com/gallery/data/500/7710Rapidtest_soil_test_kit.jpg&amp;imgrefurl=http://www.icmag.com/ic/showthread.php%3Ft%3D49477&amp;usg=__TAHpeAZSpOLnwlwqo4rPa2qIBbM=&amp;h=562&amp;w=600&amp;sz=96&amp;hl=en&amp;start=17&amp;tbnid=Bp9daAepOBhlRM:&amp;tbnh=126&amp;tbnw=135&amp;prev=/images%3Fq%3Dtesting%2Bacid%2Bsoils%26gbv%3D2%26hl%3Den%26safe%3Doff%26sa%3D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How does your garden gr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il is a mixture of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use each type of soil has different amounts of each part, there are many types of soil. Plants need m___________ to help them grow and some soils have more than others. Some soils hold more w_______ than others. This affects which plants grow there and what you are able to gr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0360" y="1052640"/>
            <a:ext cx="2303640" cy="143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195640" cy="164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0836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_______ of the soil affects which minerals can be absorbed by plants for growth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inerals are lacking in a very pH 5 so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761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ould a farmer like to be able to control the acidity of his so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1522" r="0" b="10130"/>
          <a:stretch/>
        </p:blipFill>
        <p:spPr>
          <a:xfrm>
            <a:off x="2268360" y="1628640"/>
            <a:ext cx="316728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303640" cy="159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624720" y="162864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12725" r="0" b="43160"/>
          <a:stretch/>
        </p:blipFill>
        <p:spPr>
          <a:xfrm>
            <a:off x="1835280" y="3500280"/>
            <a:ext cx="5324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treat an acid soil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729080" cy="114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215928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910640" y="2565360"/>
            <a:ext cx="123336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4365720"/>
            <a:ext cx="1511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84280" y="18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uch have you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9920" y="1313640"/>
            <a:ext cx="5027400" cy="4884480"/>
            <a:chOff x="2059920" y="1313640"/>
            <a:chExt cx="5027400" cy="4884480"/>
          </a:xfrm>
        </p:grpSpPr>
        <p:sp>
          <p:nvSpPr>
            <p:cNvPr id="65" name="_s7173"/>
            <p:cNvSpPr/>
            <p:nvPr/>
          </p:nvSpPr>
          <p:spPr>
            <a:xfrm flipH="1" flipV="1">
              <a:off x="3362760" y="3145320"/>
              <a:ext cx="606960" cy="30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174"/>
            <p:cNvSpPr/>
            <p:nvPr/>
          </p:nvSpPr>
          <p:spPr>
            <a:xfrm>
              <a:off x="2059920" y="2230920"/>
              <a:ext cx="1397160" cy="12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75"/>
            <p:cNvSpPr/>
            <p:nvPr/>
          </p:nvSpPr>
          <p:spPr>
            <a:xfrm flipH="1">
              <a:off x="3362400" y="4060800"/>
              <a:ext cx="608760" cy="30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176"/>
            <p:cNvSpPr/>
            <p:nvPr/>
          </p:nvSpPr>
          <p:spPr>
            <a:xfrm>
              <a:off x="2062080" y="406260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177"/>
            <p:cNvSpPr/>
            <p:nvPr/>
          </p:nvSpPr>
          <p:spPr>
            <a:xfrm>
              <a:off x="4573080" y="4363200"/>
              <a:ext cx="180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178"/>
            <p:cNvSpPr/>
            <p:nvPr/>
          </p:nvSpPr>
          <p:spPr>
            <a:xfrm>
              <a:off x="3877200" y="497664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179"/>
            <p:cNvSpPr/>
            <p:nvPr/>
          </p:nvSpPr>
          <p:spPr>
            <a:xfrm>
              <a:off x="5175720" y="4059000"/>
              <a:ext cx="606600" cy="30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180"/>
            <p:cNvSpPr/>
            <p:nvPr/>
          </p:nvSpPr>
          <p:spPr>
            <a:xfrm>
              <a:off x="5690160" y="406080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181"/>
            <p:cNvSpPr/>
            <p:nvPr/>
          </p:nvSpPr>
          <p:spPr>
            <a:xfrm flipV="1">
              <a:off x="5175720" y="3145320"/>
              <a:ext cx="606600" cy="30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182"/>
            <p:cNvSpPr/>
            <p:nvPr/>
          </p:nvSpPr>
          <p:spPr>
            <a:xfrm>
              <a:off x="5690160" y="222912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183"/>
            <p:cNvSpPr/>
            <p:nvPr/>
          </p:nvSpPr>
          <p:spPr>
            <a:xfrm flipV="1">
              <a:off x="4573080" y="2532960"/>
              <a:ext cx="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184"/>
            <p:cNvSpPr/>
            <p:nvPr/>
          </p:nvSpPr>
          <p:spPr>
            <a:xfrm>
              <a:off x="3875400" y="131364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185"/>
            <p:cNvSpPr/>
            <p:nvPr/>
          </p:nvSpPr>
          <p:spPr>
            <a:xfrm>
              <a:off x="3875400" y="314676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0:51:46Z</dcterms:created>
  <dc:creator>me</dc:creator>
  <dc:description/>
  <dc:language>en-US</dc:language>
  <cp:lastModifiedBy>NicholasHardy</cp:lastModifiedBy>
  <dcterms:modified xsi:type="dcterms:W3CDTF">2009-09-23T02:52:04Z</dcterms:modified>
  <cp:revision>3</cp:revision>
  <dc:subject/>
  <dc:title>How does your garden grow?</dc:title>
</cp:coreProperties>
</file>